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98E-186A-4855-A742-99501082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1EA-C1DB-44B4-9E2F-3A4DC184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194-5476-40A7-A51A-45B47324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574-7355-4DEB-8419-29C168F2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171C-4563-4B18-A3D9-EBCEED21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961A-BCE3-4787-B574-E810A2E0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500D-70E0-4C4D-B2D2-568F7180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4DDE-AD69-4C35-8C70-94082B08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D32A-133F-4C61-ABD1-5016D4CF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22A5-15E4-417C-BBDB-D6DF01A1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10F0-38B8-47BB-9834-0607354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C0E-08BD-406E-8915-2AD82E3C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5849-5BCA-4111-B6E7-63ECC2AA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289F-22C5-4642-89F2-F9F8E507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4C71-1C87-48C3-80B3-5316B2C4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F2A5-38FC-4800-94F3-FD215A94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D822-DE63-4655-A440-2E096CD3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564E7-5D46-49A6-AA7D-CEC31C3C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B944D-FB9C-40A5-9325-0528C8DE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C0E65-00EC-444B-B295-2E48F6F5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B62CB-C329-4A33-B72C-5B2A1437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820B6-4666-4C60-BC00-82303EAD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509-1D2F-4149-8E56-6DB92F06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B482F-673E-4A1B-A579-7A336B82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8BCDD-DD19-42DD-81C7-04142F15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3F002-F8EC-4852-8EC1-E74DA244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ADAAB-1F95-4FDE-BACD-2D7495F2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F6AF4-B064-4AB0-86B9-2568063B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783D1-B994-447B-8D5D-46CAEFA0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7DFB6-98E7-4400-984C-9BE14457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40638-8C31-4F43-857D-36DF70FE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0E788-2266-4927-9D9D-D051C8B1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1A8A-05C0-4640-B670-B5E360B0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0B9-6D4D-47BE-8A1C-0EAFA98F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1B493-78BC-4FD3-824A-91E91934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90555-8010-48D6-AB5B-D2A7F410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97EB-AAFC-4221-BAAF-D11BF7EF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D172-BD85-4728-8D51-2050B2ED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0103-66E1-434B-A834-12E95C0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54923-B461-4134-AAD1-51301987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AB57-19C1-4C08-8D90-983EA179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C1698-9D24-48BC-B9D8-B26CEEBA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7541-A341-4831-83D3-E981169F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BE72E-AD58-4A4B-8EB1-3191C2B4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6B9-420B-4503-BE37-7476C55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D8CA0-4F48-4833-B255-D54D185B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919C8-86D2-4AF3-A287-A6990BD2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98D5B-C8F5-4B09-90A4-577082B3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D1501-6CC0-499E-83C4-2FF4243C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3D2BE-457D-4DDD-AD94-39BB394A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84786-B6E9-4DA2-9189-3BF9E359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826E1-30E0-4FAD-9A35-0BDAC117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E23C7-8B6F-4EEE-AA12-58BBE466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B54E3-0D38-4648-A5A9-1F83A2F0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DF886-4CAD-45A1-8997-3D3524F0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402-05B1-4790-A82D-BF26DEA2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69EF9-83A3-403A-9813-89C86048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A375F-3D6A-41A3-8659-18EA5464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D9D0E-A33C-4B35-A0C2-BA22611F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9250B-064F-49AB-9891-A93C5D81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ADB2E-2F1B-40D4-BC7B-2EAAA176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2AA7-32C4-4694-A247-E01C1DF4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BE344-C9F9-4FD9-99A3-1250E24A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AD15F-A145-4F45-A661-7E1DD65B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62F44-9331-4D7E-8EE2-0494AE0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B388F-FEDB-453B-BD2E-94BE7D86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4C6-8F8A-479E-9F22-85024A8D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DEEDF-5CB3-49A1-821B-B4B96BD6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7752A-C47A-456E-B98C-76F33FC7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A841-D2DA-434A-8604-A5BD481A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7AE47-CE33-4CAE-A3AA-3E8C4E77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745FC-E87D-4B85-A9C4-AD1601B9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FAD34-E78E-4DEF-AA9E-249990F4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2AEF2-D967-476B-9093-10D7F853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9A3B1-6ABD-4953-A6E9-D57FC28A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FF072-77AF-44B2-9110-47342B7F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6228D-95D2-4569-AB6C-D35ABA10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D59-570A-48F9-A12F-33C5E24F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E5F10-E665-4531-8E89-B7DD0C78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A8843-056D-4E52-AB2C-ABB76A79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69380-0E27-4C10-B913-8F6E7C25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364FA-AB7C-4C7D-832C-E249AB55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9B432-66F0-4639-8904-DB421AAE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5DE88-D685-444D-AF42-BD3A69D3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D7FE2-E2DC-4476-8358-B2E0621C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B167C-623F-458D-9AF9-CAC55CEB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0C2F7-7935-427F-97A5-3DBABFBE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6B845-E99D-490F-B0FD-A29DEA17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F16-D838-4E22-9A02-D1F5B4F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886EC-7946-45FF-964D-02114FE5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12B26-331D-43E9-8C45-23670CC6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75A7E-3731-4279-8093-1ABA8654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DBD73-CF53-4C7E-A3E0-9E9C1053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BD327-A631-4C50-8F28-A5597FE6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E6688-B5A5-4E59-9A3A-27E432C4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AA75C-7611-4CAB-B34C-FF99EAD8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0520-9E22-4420-A684-ECFE1DBC6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ABC9-6D30-4150-8149-12B3770498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8476-6E25-41F4-9904-35EB608F38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0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AC10-7A98-4369-9C8F-1FD89E5CEC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B013-82EC-4BAA-BF89-1EB171ADD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3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8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4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692F-DEFC-4A45-97F1-3F4A0C92CF1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9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466C-3960-4BF7-8579-3722AD2919C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54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58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8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34D5-81B4-4B4C-8379-F052A8EEAAE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tem-changing Verbs and Verbs w/ Spelling Chang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Stem-changing verb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4 types of stem-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-&gt; 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 -&gt; 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-&gt; 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-&gt;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990720" y="495288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ntrar (o -&gt; u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er (e -&gt; 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gar (u -&gt; u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r (e -&gt; 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Verbos con el cambio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e -&gt; 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19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rar – to 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nzar – to beg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pertar – to w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ezar – to beg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sar – to 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brar – to br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der – to def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ender – to desc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876920" y="1752480"/>
            <a:ext cx="4267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ender – to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nder – to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der – to 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rer – to w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r – to w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ir – to 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ferir – to pre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ir – to f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Verbos con el cambi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e -&gt; 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ir – to ask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to la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r – to rep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ir – to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r – to 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to sm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erbos con el cambio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 -&gt; u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rzar – to eat lun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devolver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return (give bac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r – to tell, re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r – to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ar – to c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er – to 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ntrar – to find, me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er – to be able (c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rar – to s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lver – to so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r – to t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er – to be us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ar – to reme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ver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return (come ba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ar – to ring, sou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mir – to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 – to dr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morir – to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144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Verbo con el cambio</a:t>
            </a:r>
            <a:br>
              <a:rPr sz="3800"/>
            </a:b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u -&gt; u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gar = to play (a game, spor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533520" y="38862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tro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erbos con camb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er = to sme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-&gt;h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ír &amp; sonreír = to laugh &amp; sm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nt over the í in all for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uir = to follo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-&gt;g bef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and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24:44Z</dcterms:created>
  <dc:creator> </dc:creator>
  <dc:description/>
  <dc:language>en-US</dc:language>
  <cp:lastModifiedBy>localadmin</cp:lastModifiedBy>
  <dcterms:modified xsi:type="dcterms:W3CDTF">2010-09-16T04:55:45Z</dcterms:modified>
  <cp:revision>9</cp:revision>
  <dc:subject/>
  <dc:title>Stem-changing Verbs and verbs with spelling changes</dc:title>
</cp:coreProperties>
</file>